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66576"/>
        <c:axId val="63448614"/>
      </c:barChart>
      <c:catAx>
        <c:axId val="32566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48614"/>
        <c:crosses val="autoZero"/>
        <c:auto val="1"/>
        <c:lblAlgn val="ctr"/>
        <c:lblOffset val="100"/>
        <c:noMultiLvlLbl val="0"/>
      </c:catAx>
      <c:valAx>
        <c:axId val="63448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66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4B2-3FA3-4847-83D5-C8B621BE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E283-FE2F-4CDC-9269-205C841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E67-95CE-4FA2-934F-6210F9FD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BB1-3777-4737-A721-06F4FA6E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52D-DD39-4E9B-8401-3258E10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0E0-5ECD-47C1-BFDC-70A8E2CA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E94B-D918-4498-9413-B3AAF46D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528-737B-4000-BBCF-7F8150D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A95C-5370-4D56-812F-EDB85CD3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6043-4026-4378-A6C8-C3A2B416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CBA-21D5-4784-AAB8-F1564128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C37-9A2D-47FC-9AD0-C84BE489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3ADD7-C79B-42CA-BA3F-185A5E9CB8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