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825022"/>
        <c:axId val="64694782"/>
      </c:barChart>
      <c:catAx>
        <c:axId val="558250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94782"/>
        <c:crosses val="autoZero"/>
        <c:auto val="1"/>
        <c:lblAlgn val="ctr"/>
        <c:lblOffset val="100"/>
        <c:noMultiLvlLbl val="0"/>
      </c:catAx>
      <c:valAx>
        <c:axId val="646947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250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055A-3682-40DE-9349-59933C1EF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42F6-038C-40ED-B084-DDE2642E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2F34-5AB8-4DF6-B091-781D4785A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1562-89C0-475C-B583-21CD485E5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43A5-8D27-43EA-ABB7-F17C6977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2074-2CFA-4608-85DC-F4F695E2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8D5C-352F-401F-8543-753BB240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ED4F-3D75-4E20-99C5-B1102063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2856-7EF6-4D46-B8BF-470E1286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9D38-1952-49E8-BB09-2FF3A0D6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B4EE-B27E-4BC0-992A-12ED5B0F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4DD2-8300-483B-8851-5C240ADD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D0407-C307-41D9-A988-1F50AAAEE8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