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28200"/>
        <c:axId val="52599886"/>
      </c:barChart>
      <c:catAx>
        <c:axId val="68928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99886"/>
        <c:crosses val="autoZero"/>
        <c:auto val="1"/>
        <c:lblAlgn val="ctr"/>
        <c:lblOffset val="100"/>
        <c:noMultiLvlLbl val="0"/>
      </c:catAx>
      <c:valAx>
        <c:axId val="52599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28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58F-E812-4FF1-991B-EB36CCAB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E12-D1AC-4BEE-96FE-34C301BA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5B2-8B21-446F-86D2-67E99D2F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D51-475A-41A1-9EC9-40C58C6D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263-53F2-481F-BB06-6DBBBC88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62B1-FE34-412D-846E-57C18EAB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6B1-1C9C-4654-9206-001388DB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F2C-E735-4434-920B-0D7201ED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302-2DA8-4857-A0C6-A51E8929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2DD-C2B2-48D6-92B3-A4CA715F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D0C-C9BA-4295-BA8D-6EF0194D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159-3E9E-4AD3-8C75-2A05E8BA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1AD47-4CA3-4B23-B189-F296FC5106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