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010688"/>
        <c:axId val="82357246"/>
      </c:barChart>
      <c:catAx>
        <c:axId val="170106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357246"/>
        <c:crosses val="autoZero"/>
        <c:auto val="1"/>
        <c:lblAlgn val="ctr"/>
        <c:lblOffset val="100"/>
        <c:noMultiLvlLbl val="0"/>
      </c:catAx>
      <c:valAx>
        <c:axId val="8235724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0106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CD789-FDB0-4A57-A226-5914EB3B8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C343-110D-47D0-A82C-F331CB9C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F908C-E0DC-4886-BCF9-CD7D85BDA9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A4F-2D46-4814-9CCC-F84D26139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DA73D-5789-4B2B-A409-1E00C7715E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6B10E-EBF9-44AC-99B5-7B8A2BC16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0FDD6-6140-4B58-A3CE-5F70DE9E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7E031-32CE-4F2F-9808-5852BC962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41DC-A824-4BCD-8486-F4BBA3075A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443C1-9E5D-4E7E-976B-4E576E8C6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6642E-D3B7-49A6-98F7-AD29B45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2567-4774-44FD-B209-650F93378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6A051A-B8BC-47C6-A1FB-A22F15A129F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